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465-88E1-4F48-AF08-80E794B4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89E-2556-42EC-9B39-F8DB219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17D-E3F8-4835-BD3A-5EBA0C2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CFC-C855-4474-91A0-52355661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973-AACC-4D81-9048-272D9D0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C6F-B0D6-41A8-9679-F5EFD1F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7C5-A20C-4C70-B9D8-0A54EEC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2F6-CA1D-4FBC-BD79-BE70B02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00B-51EB-4347-84C0-72BAA307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109-8538-4E0F-A176-2EF32EE1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3BD-680C-4656-8C55-F0672FC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E19-DA79-4BE2-B147-32820C95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2E63-3E38-4C74-9C97-24D52352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Oxley Family</cp:lastModifiedBy>
  <dcterms:modified xsi:type="dcterms:W3CDTF">2010-04-20T14:24:13Z</dcterms:modified>
  <cp:revision>11</cp:revision>
  <dc:subject/>
  <dc:title>Slide 1</dc:title>
</cp:coreProperties>
</file>